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8E9-1D0E-4644-BC6F-030321F3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C34-02F2-4C50-8C44-C9EF2694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268-95A3-4494-B903-FBC9F66D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5D3-D4A7-4FBE-B91D-308F4571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040-5537-4CD1-8362-42C144BD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C94-D161-4639-9BE5-D4769506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C5C-D26E-42C3-AAAC-60F65EAC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F0B-32C1-4F99-88FD-1D778360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9C2-7B02-48E2-B68D-5DD6B5D8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A29-06B0-4979-87E8-DE91FA89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CF9-79F6-4DA5-AF6B-92E58B3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A21-BC60-434C-A989-BF1903F6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476F-7A05-4E9B-9CF4-6FC49986E17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0" spc="-1" strike="noStrike">
                <a:solidFill>
                  <a:srgbClr val="10253f"/>
                </a:solidFill>
                <a:latin typeface="Arial Black"/>
              </a:rPr>
              <a:t>MATEMATIK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92852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0253f"/>
                </a:solidFill>
                <a:latin typeface="Calibri"/>
              </a:rPr>
              <a:t>Četvrtak, 27.05. 201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0253f"/>
                </a:solidFill>
                <a:latin typeface="Calibri"/>
              </a:rPr>
              <a:t>Početak ispita: 09:00 sa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0253f"/>
                </a:solidFill>
                <a:latin typeface="Calibri"/>
              </a:rPr>
              <a:t>Trajanje ispita:  180 minu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0253f"/>
                </a:solidFill>
                <a:latin typeface="Calibri"/>
              </a:rPr>
              <a:t>Pribor: uobičajeni pribor za pisanje i brisanje (olovka, kemijska olovka plave ili crne boje i gumica), geometrijski pribor (trokut ili ravnalo i šestar), džepno računalo (tzv. znanstveni kalkulato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Rješenja zadataka višestrukoga izbora na listu za odgovore treba označiti kemijskom olovkom plave ili crne bo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Knjižica s formulama potrebnim za rješavanje ispita sastavni je dio ispitnoga materij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Nije dopušteno donijeti niti rabiti nikakve druge listove s formul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10253f"/>
                </a:solidFill>
                <a:latin typeface="Arial Black"/>
              </a:rPr>
              <a:t>HRVATSKI JEZI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Petak, 28.05. 20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Početak ispita: 09:00 sa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Trajanje ispita:  80 minu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Pribor:  </a:t>
            </a:r>
            <a:r>
              <a:rPr b="0" lang="hr-HR" sz="3200" spc="-1" strike="noStrike" u="sng">
                <a:solidFill>
                  <a:srgbClr val="10253f"/>
                </a:solidFill>
                <a:uFillTx/>
                <a:latin typeface="Calibri"/>
              </a:rPr>
              <a:t>samo</a:t>
            </a: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 kemijska olovka ili nalivpero crne ili plave b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10253f"/>
                </a:solidFill>
                <a:latin typeface="Arial Black"/>
              </a:rPr>
              <a:t>ENGLESKI JEZI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10253f"/>
                </a:solidFill>
                <a:latin typeface="Calibri"/>
              </a:rPr>
              <a:t>Ponedjeljak, 31.05. 201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10253f"/>
                </a:solidFill>
                <a:latin typeface="Calibri"/>
              </a:rPr>
              <a:t>Početak ispita: 09:00 sat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10253f"/>
                </a:solidFill>
                <a:latin typeface="Calibri"/>
              </a:rPr>
              <a:t>Trajanje ispita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10253f"/>
                </a:solidFill>
                <a:latin typeface="Calibri"/>
              </a:rPr>
              <a:t>Osnovna razina - 25 minu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10253f"/>
                </a:solidFill>
                <a:latin typeface="Calibri"/>
              </a:rPr>
              <a:t>Viša razina – 35 minu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10253f"/>
                </a:solidFill>
                <a:latin typeface="Calibri"/>
              </a:rPr>
              <a:t>Pribor:  </a:t>
            </a:r>
            <a:r>
              <a:rPr b="0" lang="hr-HR" sz="3000" spc="-1" strike="noStrike" u="sng">
                <a:solidFill>
                  <a:srgbClr val="10253f"/>
                </a:solidFill>
                <a:uFillTx/>
                <a:latin typeface="Calibri"/>
              </a:rPr>
              <a:t>samo</a:t>
            </a:r>
            <a:r>
              <a:rPr b="0" lang="hr-HR" sz="3000" spc="-1" strike="noStrike">
                <a:solidFill>
                  <a:srgbClr val="10253f"/>
                </a:solidFill>
                <a:latin typeface="Calibri"/>
              </a:rPr>
              <a:t> kemijska olovka ili nalivpero crne ili plave boj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10253f"/>
                </a:solidFill>
                <a:latin typeface="Calibri"/>
              </a:rPr>
              <a:t>Tijekom pisanja ispita iz Engleskoga jezika na višoj razini dopušteno je rabiti kemijsku olovku plave ili crne boj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10253f"/>
                </a:solidFill>
                <a:latin typeface="Calibri"/>
              </a:rPr>
              <a:t>Nije dopušteno rabiti rječni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500" spc="-1" strike="noStrike">
                <a:solidFill>
                  <a:srgbClr val="10253f"/>
                </a:solidFill>
                <a:latin typeface="Arial Black"/>
              </a:rPr>
              <a:t>TALIJANSKI JEZIK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Utorak, 01.06. 20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Početak ispita: 10:00 sa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Trajanje ispita:  30 minu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Pribor:  </a:t>
            </a:r>
            <a:r>
              <a:rPr b="0" lang="hr-HR" sz="3200" spc="-1" strike="noStrike" u="sng">
                <a:solidFill>
                  <a:srgbClr val="10253f"/>
                </a:solidFill>
                <a:uFillTx/>
                <a:latin typeface="Calibri"/>
              </a:rPr>
              <a:t>samo</a:t>
            </a: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 kemijsku olovku plave ili crne boje. Nije dopušteno rabiti rječnike niti druge priručne materij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10253f"/>
                </a:solidFill>
                <a:latin typeface="Arial Black"/>
              </a:rPr>
              <a:t>POLITIKA I GOSPODARST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Utorak, 01.06. 20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Početak ispita: 11:30 sa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Trajanje ispita:  90 minu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Pribor:  Kemijska olovka plave ili crne bo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500" spc="-1" strike="noStrike">
                <a:solidFill>
                  <a:srgbClr val="10253f"/>
                </a:solidFill>
                <a:latin typeface="Arial Black"/>
              </a:rPr>
              <a:t>ŠPANJOLSKI JEZIK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Srijeda, 02.06. 20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Početak ispita: 10:00 sa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Trajanje ispita:  30 minu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Pribor:  </a:t>
            </a:r>
            <a:r>
              <a:rPr b="0" lang="hr-HR" sz="3200" spc="-1" strike="noStrike" u="sng">
                <a:solidFill>
                  <a:srgbClr val="10253f"/>
                </a:solidFill>
                <a:uFillTx/>
                <a:latin typeface="Calibri"/>
              </a:rPr>
              <a:t>samo</a:t>
            </a:r>
            <a:r>
              <a:rPr b="0" lang="hr-HR" sz="3200" spc="-1" strike="noStrike">
                <a:solidFill>
                  <a:srgbClr val="10253f"/>
                </a:solidFill>
                <a:latin typeface="Calibri"/>
              </a:rPr>
              <a:t> kemijsku olovku plave ili crne boje. Nije dopušteno rabiti rječnike niti druge knji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19:49Z</dcterms:created>
  <dc:creator>Korisnik</dc:creator>
  <dc:description/>
  <dc:language>en-US</dc:language>
  <cp:lastModifiedBy>Korisnik</cp:lastModifiedBy>
  <dcterms:modified xsi:type="dcterms:W3CDTF">2010-05-25T07:21:51Z</dcterms:modified>
  <cp:revision>1</cp:revision>
  <dc:subject/>
  <dc:title>MATEMATIKA</dc:title>
</cp:coreProperties>
</file>